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0561-7760-4213-A1C8-D572ABA6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0370-1872-4262-9268-63DFD7AD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6795-C679-4355-92CF-B9C3F440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9E1C-997F-4425-B025-81D8191F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8CD2-13C1-4140-B164-3884CDD2E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758-609F-4FF0-9A27-92023902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D55-5E8A-4307-AD9E-DCCAFD2B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0B9-1AC1-4A09-94DC-8B48DDF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49B-F06C-498D-B8B2-99A98577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9B6-A706-4688-984F-B4CE9F65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7D4-4496-41BB-BE02-6153EA5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068-BAC2-42A0-8CBB-FD8EE3BD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4B7-338F-48F9-BCA8-75492788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18F-3338-4A8D-B712-D0A8602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0B35-2964-4084-BE52-566385E1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6FD-0998-4E1C-B80B-157E2C1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02D-97F2-40D9-83F4-B00477DF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181-C969-4FBA-B21D-D56E747F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18FB-199C-44B2-B2A1-53C99433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Reservo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movement and/or change of matter as it moves through the water cyc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efine residence time and predict how a system is impacted by changes in residence ti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ence Tim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3" name="Picture 6" descr="Picture 2.png"/>
          <p:cNvPicPr/>
          <p:nvPr/>
        </p:nvPicPr>
        <p:blipFill>
          <a:blip r:embed="rId1"/>
          <a:stretch/>
        </p:blipFill>
        <p:spPr>
          <a:xfrm>
            <a:off x="0" y="1219320"/>
            <a:ext cx="4856040" cy="3733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would happen to the simple system if you made the hole in the restriction in pipe 4 large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952880" y="3733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Water would move from Container B to Container C at a faster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3520" y="5638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eans water would stay in container B for less time.  Therefore there is a decreas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idence 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water in container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8" name="Picture 6" descr="Picture 2.png"/>
          <p:cNvPicPr/>
          <p:nvPr/>
        </p:nvPicPr>
        <p:blipFill>
          <a:blip r:embed="rId1"/>
          <a:stretch/>
        </p:blipFill>
        <p:spPr>
          <a:xfrm>
            <a:off x="0" y="1219320"/>
            <a:ext cx="4856040" cy="3733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952880" y="14018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4"/>
                </a:solidFill>
                <a:latin typeface="Arial"/>
                <a:ea typeface="Arial"/>
              </a:rPr>
              <a:t>Q: What change in the water cycle would be analogous to increasing the size of the hole in Pipe 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952880" y="37339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: Increasing the rate of precip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Reservoir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02" name="Rectangle 3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54064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energy in the system is balanc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ter moves and changes to return a system t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. What are the phases of water as it resides in various places in the water cyc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33520" y="6019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Liquid &amp; Gas: precipitation, surface water, ground water, clouds; Gas: atmosphe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watercyclesummary.jpg"/>
          <p:cNvPicPr/>
          <p:nvPr/>
        </p:nvPicPr>
        <p:blipFill>
          <a:blip r:embed="rId1"/>
          <a:stretch/>
        </p:blipFill>
        <p:spPr>
          <a:xfrm>
            <a:off x="1371600" y="1419120"/>
            <a:ext cx="659124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65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0" name="Picture 6" descr="Picture 2.png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31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Picture 2.png"/>
          <p:cNvPicPr/>
          <p:nvPr/>
        </p:nvPicPr>
        <p:blipFill>
          <a:blip r:embed="rId1"/>
          <a:stretch/>
        </p:blipFill>
        <p:spPr>
          <a:xfrm>
            <a:off x="1422360" y="2262240"/>
            <a:ext cx="6273720" cy="482436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5"/>
          <p:cNvCxnSpPr/>
          <p:nvPr/>
        </p:nvCxnSpPr>
        <p:spPr>
          <a:xfrm>
            <a:off x="3885120" y="2438280"/>
            <a:ext cx="1080" cy="9151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77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78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693432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iquid Water in Clou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1"/>
          <p:cNvSpPr/>
          <p:nvPr/>
        </p:nvSpPr>
        <p:spPr>
          <a:xfrm>
            <a:off x="7238880" y="4876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recipitation Reaching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Water Stored in La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3124080" y="2057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Cond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7391520" y="40496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Straight Arrow Connector 19"/>
          <p:cNvCxnSpPr/>
          <p:nvPr/>
        </p:nvCxnSpPr>
        <p:spPr>
          <a:xfrm flipH="1">
            <a:off x="6247800" y="4267080"/>
            <a:ext cx="1143720" cy="766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>
            <a:off x="1447920" y="4572000"/>
            <a:ext cx="838800" cy="78480"/>
          </a:xfrm>
          <a:prstGeom prst="straightConnector1">
            <a:avLst/>
          </a:prstGeom>
          <a:ln w="19080">
            <a:solidFill>
              <a:srgbClr val="400080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va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Phase Chang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" name="Picture 6" descr="Picture 2.png"/>
          <p:cNvPicPr/>
          <p:nvPr/>
        </p:nvPicPr>
        <p:blipFill>
          <a:blip r:embed="rId1"/>
          <a:stretch/>
        </p:blipFill>
        <p:spPr>
          <a:xfrm>
            <a:off x="0" y="228600"/>
            <a:ext cx="2476440" cy="19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2514600"/>
          <a:ext cx="9144000" cy="185724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0" y="4648320"/>
          <a:ext cx="9144000" cy="1895400"/>
        </p:xfrm>
        <a:graphic>
          <a:graphicData uri="http://schemas.openxmlformats.org/drawingml/2006/table">
            <a:tbl>
              <a:tblPr/>
              <a:tblGrid>
                <a:gridCol w="2743200"/>
                <a:gridCol w="3809880"/>
                <a:gridCol w="259092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Run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20:43:51Z</dcterms:created>
  <dc:creator>Julie Libarkin</dc:creator>
  <dc:description/>
  <dc:language>en-US</dc:language>
  <cp:lastModifiedBy>Nicole LaDue</cp:lastModifiedBy>
  <dcterms:modified xsi:type="dcterms:W3CDTF">2010-12-17T22:21:36Z</dcterms:modified>
  <cp:revision>296</cp:revision>
  <dc:subject/>
  <dc:title>PowerPoint Presentation</dc:title>
</cp:coreProperties>
</file>